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image2.gif" ContentType="image/gif"/>
  <Override PartName="/ppt/media/jetflyby2.wav" ContentType="audio/x-wav"/>
  <Override PartName="/ppt/media/bserie06.wav" ContentType="audio/x-wav"/>
  <Override PartName="/ppt/media/hzipup01.wav" ContentType="audio/x-wav"/>
  <Override PartName="/ppt/media/image3.gif" ContentType="image/gif"/>
  <Override PartName="/ppt/media/highchime.wav" ContentType="audio/x-wav"/>
  <Override PartName="/ppt/media/caralarmoff.wav" ContentType="audio/x-wav"/>
  <Override PartName="/ppt/media/lzipup01.wav" ContentType="audio/x-wav"/>
  <Override PartName="/ppt/media/image1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89A-0CE1-4617-8D69-DE325ACB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7BA-C9AE-4620-8E9E-2ED1593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062-D2C2-499D-BFA1-9D75607C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F39-810F-450F-B32F-78768BBE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A3D-2946-43FD-A752-3DEAC66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C61-B11F-413C-9ABD-39F07AA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8DC-41C7-4E3B-954F-63C950C1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0D0-9962-43D7-ACBB-1D526322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13C-0266-41CA-868D-8EBA6E1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399-F7DC-4198-AA09-566DC41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B27-EF5F-44D8-9753-E266EEE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7F5-65AE-4E66-8708-2ECD742E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634F-5D97-4615-A1B6-979F53829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caralarmoff.wav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bserie06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ipdn102.wav"/><Relationship Id="rId32" Type="http://schemas.openxmlformats.org/officeDocument/2006/relationships/audio" Target="../media/zapbig0g.wav"/><Relationship Id="rId33" Type="http://schemas.openxmlformats.org/officeDocument/2006/relationships/audio" Target="../media/hzipup01.wav"/><Relationship Id="rId34" Type="http://schemas.openxmlformats.org/officeDocument/2006/relationships/audio" Target="../media/bserie06.wav"/><Relationship Id="rId35" Type="http://schemas.openxmlformats.org/officeDocument/2006/relationships/audio" Target="../media/zapbig0g.wav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bserie06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ipdn102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zipdn102.wav"/><Relationship Id="rId33" Type="http://schemas.openxmlformats.org/officeDocument/2006/relationships/audio" Target="../media/caralarmoff.wav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bserie06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zapbig0g.wav"/><Relationship Id="rId22" Type="http://schemas.openxmlformats.org/officeDocument/2006/relationships/audio" Target="../media/hzipup01.wav"/><Relationship Id="rId23" Type="http://schemas.openxmlformats.org/officeDocument/2006/relationships/audio" Target="../media/bserie06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hzipup01.wav"/><Relationship Id="rId29" Type="http://schemas.openxmlformats.org/officeDocument/2006/relationships/audio" Target="../media/bserie06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ipdn102.wav"/><Relationship Id="rId33" Type="http://schemas.openxmlformats.org/officeDocument/2006/relationships/audio" Target="../media/zapbig0g.wav"/><Relationship Id="rId34" Type="http://schemas.openxmlformats.org/officeDocument/2006/relationships/audio" Target="../media/hzipup01.wav"/><Relationship Id="rId35" Type="http://schemas.openxmlformats.org/officeDocument/2006/relationships/audio" Target="../media/bserie06.wav"/><Relationship Id="rId36" Type="http://schemas.openxmlformats.org/officeDocument/2006/relationships/audio" Target="../media/zapbig0g.wav"/><Relationship Id="rId37" Type="http://schemas.openxmlformats.org/officeDocument/2006/relationships/audio" Target="../media/caralarmoff.wav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average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357200"/>
                <a:ext cx="34894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727520" y="137160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s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1000" y="398772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542448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0880" y="459108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3320" y="46245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19160" y="5327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1680" y="5334120"/>
            <a:ext cx="9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9680" y="2889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2960" y="342576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35440" y="1914480"/>
            <a:ext cx="44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 the sum by the number of par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5080" y="353232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67320" y="365292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6960" y="34956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86360" y="2825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5240" y="363672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70520" y="527364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32480" y="4100400"/>
            <a:ext cx="8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904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84880" y="4743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7160" y="474804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54360" y="48909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65800" y="2809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1400" y="609300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9720" y="404028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95880" y="52880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2400" y="2075040"/>
            <a:ext cx="19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average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9520" y="1268280"/>
                <a:ext cx="6829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,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41520" y="414828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5480" y="559908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8280" y="4765680"/>
            <a:ext cx="145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19160" y="479916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86080" y="5459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4800" y="54514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3480" y="1901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63840" y="3600360"/>
            <a:ext cx="141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4360" y="2460600"/>
            <a:ext cx="141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5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9440" y="303372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1908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545616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5280" y="256212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7520" y="268272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7160" y="252576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1760" y="1870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35440" y="266652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1760" y="42894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92680" y="3130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67440" y="49878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1720" y="37450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7360" y="3763800"/>
            <a:ext cx="54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4920" y="3921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08560" y="1868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19440" y="51372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9440" y="185256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09920" y="307008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7400" y="4317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38960" y="49798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16680" y="186228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3040" y="54864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3920" y="63054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8400" y="55008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0040" y="61466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42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 Marco spent $2.65, $3.30, and $3.95 on lunches in three days. What was the average Marco spent on lunches each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450720" y="412920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3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920" y="556560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9160" y="473220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9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600" y="47656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8120" y="544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7760" y="54468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2240" y="301788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28760" y="356724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6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46440" y="329076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9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8680" y="341136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38320" y="32544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4360" y="2568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76600" y="33951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4960" y="503244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3840" y="385920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5600" y="56577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4502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8520" y="450684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56080" y="46497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21000" y="2568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22760" y="585144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1080" y="37987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7240" y="5046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680" y="221616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$3.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120" y="5467320"/>
            <a:ext cx="7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011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16520" y="26082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48240" y="2560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54880" y="420372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539280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883120" y="4483080"/>
            <a:ext cx="80352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992920" y="1925640"/>
            <a:ext cx="2527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42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. The amount of snow that fell in 5 months in Toronto were .36, .71, .95, 2.88, and 3.85. What was the average snowfall during these 5 mont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441360" y="480528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8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280" y="624204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880" y="540864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8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0960" y="54421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7840" y="61196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7480" y="6122880"/>
            <a:ext cx="5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261288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419040" y="424332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9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8040" y="274320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9920" y="286380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920" y="2706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25960" y="20210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47840" y="284760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25960" y="4513320"/>
            <a:ext cx="9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5080" y="331164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06840" y="51102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8520" y="3954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9760" y="39592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7320" y="410220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92600" y="2021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4000" y="530388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22680" y="32511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8480" y="449892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" y="1979640"/>
            <a:ext cx="25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1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480" y="6143760"/>
            <a:ext cx="7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1320" y="262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7760" y="20606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9480" y="2013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425520" y="370692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7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419040" y="31161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3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5400" y="5106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5920" y="557856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3960" y="6369120"/>
            <a:ext cx="7318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68800" y="55641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33720" y="61358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02320" y="2392200"/>
            <a:ext cx="2724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7, 7 – 11 #1 – 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1-13T17:21:18Z</dcterms:modified>
  <cp:revision>90</cp:revision>
  <dc:subject/>
  <dc:title>Slide 1</dc:title>
</cp:coreProperties>
</file>